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34D-C760-4A7B-AB3A-2757AC20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B21-DFCF-40BE-907F-ABE4BFD1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B78-9640-4388-9B2A-BE536AA9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413-248B-4706-9D69-0F91FDD7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7B69-6EFB-4151-A542-DB7E69CE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1BD8-1847-42C9-AE3A-03B2AD6C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C7F8-B137-4319-927A-391B0049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DCD5-4FC4-4AB9-8138-EBDECCF9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3F5D-1785-48CE-8046-94A43026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34B9-2958-44F5-8F41-4E392852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228B-D90C-4F3E-9827-F6B9056F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7BF-83ED-4638-906E-1BD411A5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1E5D-7EF2-42AC-B556-98C12659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315E-2E16-4462-99D8-AC2A53CA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04A9-9CF2-4DD7-8F60-C0FFA89A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67BF-254E-4C88-856F-916F0F02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08F5-9A3D-4A8B-B0CA-22F18D09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005-6B58-400D-ABDB-ACA15180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A41-F943-418E-9394-0D117198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AFC-CFDF-4754-A08F-40C95A2D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8B4-E34C-4490-B242-C00CA26B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4EC-DEBC-4C7C-ABF5-DE7C85A5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C4C-F212-4D36-AC62-D9E8D3E3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10C-E0BB-47D5-82C7-51F241B7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8AFF-13E2-4A9C-B3FF-DE4F07933D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B6A5-415F-4794-8760-695A1806D0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um ne influenteaza televiziunea viata de zi cu zi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257800" y="2895480"/>
            <a:ext cx="2666880" cy="1524240"/>
          </a:xfrm>
          <a:prstGeom prst="cloudCallout">
            <a:avLst>
              <a:gd name="adj1" fmla="val -70120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télévisions en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despre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sturile TV din Fra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ux télévisions: FRANCE2 et TF1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utes les actualités nationale  et internationales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spre utilitatea unui post TV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bog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ţ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rea vocabularului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limba francez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1461960"/>
          <a:ext cx="8077320" cy="52578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’est util.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us chaîne de télévisions et plus choses intéressantes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user</cp:lastModifiedBy>
  <dcterms:modified xsi:type="dcterms:W3CDTF">2011-10-18T17:36:05Z</dcterms:modified>
  <cp:revision>30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